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6AA6-1577-4E13-AC0B-7A39AB76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8C0F-0E18-4293-9605-5B4A1799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5B90-574F-49C4-8B25-3A2C7465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8546-79F8-43D1-ABF5-F6D59148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8A34-D7DE-4651-B7DF-61BDE6A7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8E7F-A208-4DF0-9538-2F75E2B9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4CC9-02F6-413B-95D2-B43DAF3F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3619-E4A3-4D78-8B3C-6236F04B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1DEC-4A5D-47EC-9C0D-D85CC26E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F624-711E-42D8-90B3-168FC6CC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1C48-F8E0-4B9B-9048-B56F22FB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C0AA-ADA5-41D3-A9D3-E6225F39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13C2-508D-4002-BA3F-C2BB990E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4787-D9D4-4F9E-A235-27D59F1B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DD38-8207-4E04-8533-142A9A0D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661A-2B3E-48DC-9C80-F6854638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CBAB-6843-4289-8102-B230BE69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386-93BF-4588-BCB0-BDA283D9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33F2-F299-40FB-BEC7-C81C6579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1C35-BC48-49CD-A41E-D9A1DEC9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6475-6F2D-4BB1-8A9C-D711B8F1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A10A-0F05-4F0D-894D-BA12FC91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0F69-B8BE-4A09-8053-29B1DAEF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0E97-1F5F-47FE-ACEB-50612274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6CFF-3030-408B-9A31-8C55AA67E5C2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D60B-D9EA-42DE-9861-AEA2FAB91E84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Violencia y sus múltiples miradas"/>
          <p:cNvPicPr/>
          <p:nvPr/>
        </p:nvPicPr>
        <p:blipFill>
          <a:blip r:embed="rId1"/>
          <a:stretch/>
        </p:blipFill>
        <p:spPr>
          <a:xfrm>
            <a:off x="380880" y="914400"/>
            <a:ext cx="5334120" cy="50785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791320" y="914400"/>
            <a:ext cx="31240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LA PROMOCIÓN DE LA EQUIDAD DE GÉNERO COMO EJE DE PREVENCIÓN DE LA VIOLENCI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Perspectivas desde la infancia violentad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4876920"/>
            <a:ext cx="24386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Arial Narrow"/>
              </a:rPr>
              <a:t>María Elena Iglesias López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Arial Narrow"/>
              </a:rPr>
              <a:t>CESIP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Arial Narrow"/>
              </a:rPr>
              <a:t>Noviembre,  200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660066"/>
                </a:solidFill>
                <a:latin typeface="Arial Narrow"/>
              </a:rPr>
              <a:t>¿Por qué la edad es un eje de </a:t>
            </a:r>
            <a:br>
              <a:rPr sz="3000"/>
            </a:br>
            <a:r>
              <a:rPr b="1" lang="es-ES" sz="3000" spc="-1" strike="noStrike">
                <a:solidFill>
                  <a:srgbClr val="660066"/>
                </a:solidFill>
                <a:latin typeface="Arial Narrow"/>
              </a:rPr>
              <a:t>desequilibrio de poder?</a:t>
            </a:r>
            <a:endParaRPr b="0" lang="en-US" sz="3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La condición de dependencia en la que se encuentran los niños, niñas y adolescentes en la familia, por su condición de desarrollo, les ubica en una situación de subordin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Pasa lo mismo con los adultos mayores, el deterioro de sus capacidades, les ubica también en situación de subordinación respecto a otros adultos.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En nuestra sociedad la ubicación jerárquica es tomada como sinónimo de pode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660066"/>
                </a:solidFill>
                <a:latin typeface="Arial Narrow"/>
              </a:rPr>
              <a:t>En lo observable, la violencia hacia los niños, niñas y adolescentes en el ámbito familiar suele darse asociada con:</a:t>
            </a:r>
            <a:endParaRPr b="0" lang="en-US" sz="2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3902040" cy="31064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09480" y="1676520"/>
            <a:ext cx="35816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Arial Narrow"/>
              </a:rPr>
              <a:t>- La resolución de conflic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Arial Narrow"/>
              </a:rPr>
              <a:t>- El establecimiento 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Arial Narrow"/>
              </a:rPr>
              <a:t>  </a:t>
            </a:r>
            <a:r>
              <a:rPr b="1" lang="es-MX" sz="2400" spc="-1" strike="noStrike">
                <a:solidFill>
                  <a:srgbClr val="660066"/>
                </a:solidFill>
                <a:latin typeface="Arial Narrow"/>
              </a:rPr>
              <a:t>normas y disciplin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Arial Narrow"/>
              </a:rPr>
              <a:t>En nuestra sociedad, los conflictos se solucionan a través de la imposición del más fuerte o del que tiene más pode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Arial Narrow"/>
              </a:rPr>
              <a:t>La disicplina se impone a través de la violenci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Arial Narrow"/>
              </a:rPr>
              <a:t>LA PREVENCIÓN DE LA VIOLENCIA</a:t>
            </a:r>
            <a:r>
              <a:rPr b="1" lang="es-ES_tradnl" sz="3600" spc="-1" strike="noStrike">
                <a:solidFill>
                  <a:srgbClr val="660066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Arial Narrow"/>
                <a:ea typeface="Arial"/>
              </a:rPr>
              <a:t>Es parte de la formación integral para la vida</a:t>
            </a:r>
            <a:r>
              <a:rPr b="1" lang="es-ES_tradnl" sz="3200" spc="-1" strike="noStrike">
                <a:solidFill>
                  <a:srgbClr val="40458c"/>
                </a:solidFill>
                <a:latin typeface="Arial Narrow"/>
              </a:rPr>
              <a:t>, </a:t>
            </a:r>
            <a:r>
              <a:rPr b="1" lang="es-ES_tradnl" sz="3200" spc="-1" strike="noStrike">
                <a:solidFill>
                  <a:srgbClr val="40458c"/>
                </a:solidFill>
                <a:latin typeface="Arial Narrow"/>
                <a:ea typeface="Arial"/>
              </a:rPr>
              <a:t>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Arial Narrow"/>
                <a:ea typeface="Arial"/>
              </a:rPr>
              <a:t>basa en una visión positiva de las rela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Arial Narrow"/>
                <a:ea typeface="Arial"/>
              </a:rPr>
              <a:t>entre las persona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Arial Narrow"/>
                <a:ea typeface="Arial"/>
              </a:rPr>
              <a:t>Valoración equitativ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Arial Narrow"/>
              </a:rPr>
              <a:t>Respeto mutuo – reconocimiento del otro(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0066"/>
                </a:solidFill>
                <a:latin typeface="Arial Narrow"/>
              </a:rPr>
              <a:t>MODIFICACIONES NECESARIA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657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0458c"/>
                </a:solidFill>
                <a:latin typeface="Arial Narrow"/>
              </a:rPr>
              <a:t>Potencial de violencia en 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0458c"/>
                </a:solidFill>
                <a:latin typeface="Arial Narrow"/>
              </a:rPr>
              <a:t>famili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0458c"/>
                </a:solidFill>
                <a:latin typeface="Arial Narrow"/>
              </a:rPr>
              <a:t>Grado de verticalidad de la estructura familia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0458c"/>
                </a:solidFill>
                <a:latin typeface="Arial Narrow"/>
              </a:rPr>
              <a:t>Grado de rigidez de las jerarquí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0458c"/>
                </a:solidFill>
                <a:latin typeface="Arial Narrow"/>
              </a:rPr>
              <a:t>Creencias en torno a la obediencia y el respe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0458c"/>
                </a:solidFill>
                <a:latin typeface="Arial Narrow"/>
              </a:rPr>
              <a:t>Creencias en torno a la disciplina y el valor del castig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0458c"/>
                </a:solidFill>
                <a:latin typeface="Arial Narrow"/>
              </a:rPr>
              <a:t>Grado de adhesión a estereotipos de géner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0458c"/>
                </a:solidFill>
                <a:latin typeface="Arial Narrow"/>
              </a:rPr>
              <a:t>Grado de autonomía relativa de los miembr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66720" y="152388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Generación de condiciones de Buen Tra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en la famili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Promoción de estructura familiar horizont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Flexibilizar y reducir las  Jerarquí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Reformulación de lo que se entiende por obediencia y respe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Erradicación del castigo físico y psicológico como estrategias de disciplin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Cuestionamiento y erradicación de los estereotipos de géner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Promoción de autonomía entre los miembros de la familia de acuerdo a la edad y capacidades crecient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0066"/>
                </a:solidFill>
                <a:latin typeface="Arial Narrow"/>
              </a:rPr>
              <a:t>VIOLENCIA HACIA N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66"/>
                </a:solidFill>
                <a:latin typeface="Arial Narrow"/>
              </a:rPr>
              <a:t>La violencia hacia los niños, niñas 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66"/>
                </a:solidFill>
                <a:latin typeface="Arial Narrow"/>
              </a:rPr>
              <a:t>adolescentes se da en diferentes ámbitos 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66"/>
                </a:solidFill>
                <a:latin typeface="Arial Narrow"/>
              </a:rPr>
              <a:t>tiene diferentes modalidades de expres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2" name="" descr="Violencia verbal y emocional"/>
          <p:cNvPicPr/>
          <p:nvPr/>
        </p:nvPicPr>
        <p:blipFill>
          <a:blip r:embed="rId1"/>
          <a:stretch/>
        </p:blipFill>
        <p:spPr>
          <a:xfrm>
            <a:off x="380880" y="3352680"/>
            <a:ext cx="2573280" cy="2667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657600" y="3352680"/>
            <a:ext cx="5029200" cy="2895840"/>
          </a:xfrm>
          <a:prstGeom prst="rect">
            <a:avLst/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Las estadísticas demuestra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que uno  de los ámbitos en lo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que con más frecuencia ocurre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actos de violencia hacia la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infancia y adolescencia, es la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famili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Arial Narrow"/>
              </a:rPr>
              <a:t>FUENTE: RESUMEN ESTADÍSTICO DE LOS CASOS ATENDIDOS EN LOS CEM - 2004</a:t>
            </a: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372600" cy="4191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El cuadro muestra claramente que las mujeres, de todas las edades, son las víctima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más frecuentes de la violenci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Arial Narrow"/>
                <a:ea typeface="Arial"/>
              </a:rPr>
              <a:t>Fuente : Sistema de Registro de Casos de los CEM's</a:t>
            </a:r>
            <a:br>
              <a:rPr sz="2000"/>
            </a:br>
            <a:r>
              <a:rPr b="1" lang="es-ES" sz="2000" spc="-1" strike="noStrike">
                <a:solidFill>
                  <a:srgbClr val="660066"/>
                </a:solidFill>
                <a:latin typeface="Arial Narrow"/>
                <a:ea typeface="Arial"/>
              </a:rPr>
              <a:t>Elaboración : Oficina de Investigación y Registro PNCVFS</a:t>
            </a:r>
            <a:br>
              <a:rPr sz="2000"/>
            </a:br>
            <a:r>
              <a:rPr b="1" lang="es-ES" sz="2000" spc="-1" strike="noStrike">
                <a:solidFill>
                  <a:srgbClr val="660066"/>
                </a:solidFill>
                <a:latin typeface="Arial Narrow"/>
                <a:ea typeface="Times New Roman"/>
              </a:rPr>
              <a:t>Cuadro comparativo de NNA atendidos/as por violencia en los CEMS período 2002 a mayo 2005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- El número de muje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violentadas es 9 vec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más alto que el d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var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- A la medida que crecen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los varones son men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violentados y, si l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son, no buscan ayud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- Por el contrario, a 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medida que crecen, l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mujeres son má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violentadas, o tienen má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disposición d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denunciar esta situa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562720" y="1676520"/>
          <a:ext cx="32004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676520"/>
                    <a:ext cx="3200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3586320" y="1676520"/>
          <a:ext cx="1971360" cy="45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6320" y="1676520"/>
                    <a:ext cx="1971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-383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4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304920" y="533520"/>
            <a:ext cx="5715000" cy="57909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943600" y="380520"/>
            <a:ext cx="2819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La visible re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de las cifras 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violencia ha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varones, 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comparación con 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incremento de 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que sufren l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mujeres, a la medi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que crecen, es un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evidencia de que 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violencia tiene qu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ver con en 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desequilibrio poder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en este caso, el pod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de la fuerza fís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Arial Narrow"/>
              </a:rPr>
              <a:t>Los malos tratos son una de las formas de expresión de la violencia en las relaciones humanas</a:t>
            </a:r>
            <a:br>
              <a:rPr sz="2400"/>
            </a:br>
            <a:r>
              <a:rPr b="1" lang="es-ES" sz="2400" spc="-1" strike="noStrike">
                <a:solidFill>
                  <a:srgbClr val="660066"/>
                </a:solidFill>
                <a:latin typeface="Arial Narrow"/>
              </a:rPr>
              <a:t>La violencia, tiene a la base, desequilibrio de poder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Ejes de desequilibrio de poder dentro de la famil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Género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E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Ambas categorías aluden a la organización jerárquica de la familia (verticalidad, obediencia, respeto, castig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Potencial de violencia en la famil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Grado de verticalidad de la estructura famili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Grado de rigidez de las jerarquí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Creencias en torno a la obediencia y el resp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Creencias en torno a la disciplina y el valor del castig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Grado de adhesión a estereotipos de géner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Grado de autonomía relativa de los miembr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0066"/>
                </a:solidFill>
                <a:latin typeface="Arial Narrow"/>
              </a:rPr>
              <a:t>Género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 Narrow"/>
                <a:ea typeface="Arial"/>
              </a:rPr>
              <a:t>	</a:t>
            </a:r>
            <a:r>
              <a:rPr b="0" lang="es-ES" sz="2800" spc="-1" strike="noStrike">
                <a:solidFill>
                  <a:srgbClr val="40458c"/>
                </a:solidFill>
                <a:latin typeface="Arial Narrow"/>
                <a:ea typeface="Times New Roman"/>
              </a:rPr>
              <a:t>El término </a:t>
            </a:r>
            <a:r>
              <a:rPr b="1" lang="es-ES" sz="2800" spc="-1" strike="noStrike">
                <a:solidFill>
                  <a:srgbClr val="40458c"/>
                </a:solidFill>
                <a:latin typeface="Arial Narrow"/>
                <a:ea typeface="Times New Roman"/>
              </a:rPr>
              <a:t>género</a:t>
            </a:r>
            <a:r>
              <a:rPr b="0" lang="es-ES" sz="2800" spc="-1" strike="noStrike">
                <a:solidFill>
                  <a:srgbClr val="40458c"/>
                </a:solidFill>
                <a:latin typeface="Arial Narrow"/>
                <a:ea typeface="Times New Roman"/>
              </a:rPr>
              <a:t> abarca el conjunto de características, de oportunidades y de expectativas que un grupo social asigna a las personas y que éstas asumen como propio, basándose en su sexo.  Es una construcción social que varía de un grupo social a otro y de una época a otra.  Se construye a través de procesos sociales de comunicación y a través de manejos de poder y es transmitido a través de formas sutiles en los procesos de crianz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660066"/>
                </a:solidFill>
                <a:latin typeface="Arial Narrow"/>
              </a:rPr>
              <a:t>¿Por qué el género es un eje de </a:t>
            </a:r>
            <a:br>
              <a:rPr sz="3000"/>
            </a:br>
            <a:r>
              <a:rPr b="1" lang="es-ES" sz="3000" spc="-1" strike="noStrike">
                <a:solidFill>
                  <a:srgbClr val="660066"/>
                </a:solidFill>
                <a:latin typeface="Arial Narrow"/>
              </a:rPr>
              <a:t>desequilibrio de poder?</a:t>
            </a:r>
            <a:endParaRPr b="0" lang="en-US" sz="3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 Narrow"/>
              </a:rPr>
              <a:t>La diferenciación de género se expresa en determinados roles que la sociedad asigna a las personas </a:t>
            </a:r>
            <a:r>
              <a:rPr b="0" lang="es-ES" sz="2400" spc="-1" strike="noStrike">
                <a:solidFill>
                  <a:srgbClr val="40458c"/>
                </a:solidFill>
                <a:latin typeface="Arial Narrow"/>
                <a:ea typeface="Times New Roman"/>
              </a:rPr>
              <a:t>desde que nacen según sean varones o mujere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 Narrow"/>
                <a:ea typeface="Times New Roman"/>
              </a:rPr>
              <a:t>Este proceso de asignación de roles, va acompañado por un proceso simultáneo de </a:t>
            </a:r>
            <a:r>
              <a:rPr b="1" lang="es-ES" sz="2400" spc="-1" strike="noStrike">
                <a:solidFill>
                  <a:srgbClr val="40458c"/>
                </a:solidFill>
                <a:latin typeface="Arial Narrow"/>
                <a:ea typeface="Times New Roman"/>
              </a:rPr>
              <a:t>valoración diferenciada entre unos roles y otros </a:t>
            </a:r>
            <a:r>
              <a:rPr b="0" lang="es-ES" sz="2400" spc="-1" strike="noStrike">
                <a:solidFill>
                  <a:srgbClr val="40458c"/>
                </a:solidFill>
                <a:latin typeface="Arial Narrow"/>
                <a:ea typeface="Times New Roman"/>
              </a:rPr>
              <a:t>(unos roles se valoran positivamente otros no o no en la misma medida), en consecuencia, lleva a la subordinación de unos grupos frente a otros, dentro de la sociedad.  Aquellas personas</a:t>
            </a:r>
            <a:r>
              <a:rPr b="0" lang="es-ES" sz="2800" spc="-1" strike="noStrike">
                <a:solidFill>
                  <a:srgbClr val="40458c"/>
                </a:solidFill>
                <a:latin typeface="Comic Sans MS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Arial Narrow"/>
                <a:ea typeface="Times New Roman"/>
              </a:rPr>
              <a:t>a quienes se les asigna los roles más valorados socialmente, se encuentran en posición de ventaja y poder frente a aquellas personas a quienes se les asigna los roles menos valorados en la socie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-307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Tradicionalmente, los roles que se asignan a l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varones han sido más valorados socialmente y 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consecuencia, las mujeres quedan ubicadas 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una posición de subordinación en relación c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Esto se expresa en la familia a través d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La visualización del varón como el JEFE de famil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Se espera entonces que el varón imponga la disciplina y el orden al interior de la misma y que el resto de los miembros acepte esa situ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13:48:04Z</dcterms:created>
  <dc:creator>Enrique Chaux</dc:creator>
  <dc:description/>
  <dc:language>en-US</dc:language>
  <cp:lastModifiedBy>marlene</cp:lastModifiedBy>
  <dcterms:modified xsi:type="dcterms:W3CDTF">2005-12-05T15:25:21Z</dcterms:modified>
  <cp:revision>126</cp:revision>
  <dc:subject/>
  <dc:title>Understanding violence  as it develops: Conflicts and aggression among urban children in Colombi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25195166</vt:r8>
  </property>
  <property fmtid="{D5CDD505-2E9C-101B-9397-08002B2CF9AE}" pid="3" name="_AuthorEmail">
    <vt:lpwstr>echaux@uniandes.edu.co</vt:lpwstr>
  </property>
  <property fmtid="{D5CDD505-2E9C-101B-9397-08002B2CF9AE}" pid="4" name="_AuthorEmailDisplayName">
    <vt:lpwstr>Enrique Chaux</vt:lpwstr>
  </property>
  <property fmtid="{D5CDD505-2E9C-101B-9397-08002B2CF9AE}" pid="5" name="_EmailSubject">
    <vt:lpwstr>Chaux Agresion reactiva y proactiva CIFE oct 2002.ppt</vt:lpwstr>
  </property>
  <property fmtid="{D5CDD505-2E9C-101B-9397-08002B2CF9AE}" pid="6" name="_ReviewingToolsShownOnce">
    <vt:lpwstr/>
  </property>
</Properties>
</file>